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B05-9913-4CA8-BD15-D26D2F5C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F98-2101-4C86-950D-A2F6804C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D2F-C595-4086-B5EF-8152A0DA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C6D-8173-409B-9F86-D6AB8AF5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197-7987-4B43-8F80-5CAF9A83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7AB-6F96-4C89-B639-6EE46D51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B75-4ED6-426E-9B26-B658B203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224-E169-48D4-8563-97465760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FE7-1382-491B-99DF-5DDE76E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4F6-5AFE-4C25-BDD2-096A8B8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165-77D4-41E6-B5D9-8DF00741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C28-3B7C-4893-81B1-1780EA0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07C2-73E4-4499-9873-5C88F1B4C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3520" y="1707840"/>
            <a:ext cx="7536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00"/>
                </a:solidFill>
                <a:latin typeface="Bookman Old Style"/>
              </a:rPr>
              <a:t>4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О, съботно училищ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Божие светилищ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показваш ми към Бога друм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радваш сърце и у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3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6480" y="1930320"/>
            <a:ext cx="8771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В теб уча аз, че зарад нас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търпял Спасителят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на кръста смърт, от грешни срам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та дал спасение на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3680" y="204156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Благодарим Ти, Отче наш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най-верен Си наш Страж!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Ти и до днес с любов сега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държиш ни при Хри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96760" y="2041560"/>
            <a:ext cx="7288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О, съботно училище,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Божие светилище!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В душата ми ти радост влей</a:t>
            </a:r>
            <a:br>
              <a:rPr sz="4400"/>
            </a:br>
            <a:r>
              <a:rPr b="1" lang="bg-BG" sz="4400" spc="-1" strike="noStrike">
                <a:solidFill>
                  <a:srgbClr val="ffff00"/>
                </a:solidFill>
                <a:latin typeface="Times New Roman"/>
              </a:rPr>
              <a:t>и в пътя ми все гр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06:16:48Z</dcterms:created>
  <dc:creator>TrifonTrifonow</dc:creator>
  <dc:description/>
  <dc:language>en-US</dc:language>
  <cp:lastModifiedBy>TrifonTrifonow</cp:lastModifiedBy>
  <dcterms:modified xsi:type="dcterms:W3CDTF">2005-09-06T06:22:12Z</dcterms:modified>
  <cp:revision>3</cp:revision>
  <dc:subject/>
  <dc:title>Slide 1</dc:title>
</cp:coreProperties>
</file>